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3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736E-72C4-4A6A-BD0A-596000E99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C8A-2622-4EC8-B22E-F123B99CE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44C-5EE1-49E8-A7F5-D8C1E4D6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E44-AB88-4DE2-8159-1918B472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8AB-E22A-4EA7-9A4B-3E8555ED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2E3-552F-4117-B527-479CD648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62D0-1331-45A4-897C-8B09A9C5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67C-9853-4791-8804-4FFA2E2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07C-7E29-4DEA-9D23-812AAE64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2971-0D31-4106-BA75-C891A20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0E5A-D472-4CCF-851C-1F9C9B8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B1A6-AF27-47D4-B499-EE6B1BB9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7698-8E76-4142-AE57-29A99473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519-2A0A-4D97-B929-6770D788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29DA-A31F-4D6C-829B-8844F322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18AA-AA70-4E37-80D8-CA2A9B0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3A15-04F6-4178-A25C-E2FDE39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7840-BEF6-4569-BA65-45A90DF3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E0C2-C91A-466B-B1A3-3AD48F31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7380-8D95-4A09-B9D9-B19CA6A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CE8-7AC9-4D27-ABF1-4D1B2449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017-21E7-433C-A2DD-45F6B6DA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38B-EBF7-4A0F-9780-FA51E96C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1A3-3F33-435C-BF66-F7D4377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7FA-02ED-4602-AD0F-602C819C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A7D-594B-473A-B923-8E6C98D0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9D35-2228-490C-9BD6-9FF071791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B971-DD18-4039-A8CE-51357F5DF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image" Target="../media/image24.jpeg"/><Relationship Id="rId9" Type="http://schemas.openxmlformats.org/officeDocument/2006/relationships/image" Target="../media/image9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image" Target="../media/image12.png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image" Target="../media/image13.png"/><Relationship Id="rId8" Type="http://schemas.openxmlformats.org/officeDocument/2006/relationships/slide" Target="slide12.xml"/><Relationship Id="rId9" Type="http://schemas.openxmlformats.org/officeDocument/2006/relationships/image" Target="../media/image14.png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image" Target="../media/image15.png"/><Relationship Id="rId13" Type="http://schemas.openxmlformats.org/officeDocument/2006/relationships/slide" Target="slide9.xml"/><Relationship Id="rId14" Type="http://schemas.openxmlformats.org/officeDocument/2006/relationships/image" Target="../media/image16.png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3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048120" y="407520"/>
            <a:ext cx="563868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ри изучении любой науки необходимы примеры – они намного полезнее прави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туч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2133720" y="502920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OC-CO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Летучесть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2133720" y="579132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9"/>
          <p:cNvSpPr/>
          <p:nvPr/>
        </p:nvSpPr>
        <p:spPr>
          <a:xfrm>
            <a:off x="8229600" y="632448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2133720" y="4952880"/>
            <a:ext cx="54864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тепень электролитической диссоц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2133720" y="5791320"/>
            <a:ext cx="54864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, 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право 9"/>
          <p:cNvSpPr/>
          <p:nvPr/>
        </p:nvSpPr>
        <p:spPr>
          <a:xfrm>
            <a:off x="8305920" y="632448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ы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2133720" y="495288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табильность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2133720" y="5791320"/>
            <a:ext cx="556236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9"/>
          <p:cNvSpPr/>
          <p:nvPr/>
        </p:nvSpPr>
        <p:spPr>
          <a:xfrm>
            <a:off x="8229600" y="624852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1"/>
          <p:cNvSpPr/>
          <p:nvPr/>
        </p:nvSpPr>
        <p:spPr>
          <a:xfrm>
            <a:off x="6324480" y="1676520"/>
            <a:ext cx="2519640" cy="10951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метал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6248520" y="3276720"/>
            <a:ext cx="2590560" cy="190476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осн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>
            <a:off x="228600" y="3429000"/>
            <a:ext cx="2743200" cy="17524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оксида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3200400" y="5181480"/>
            <a:ext cx="2952720" cy="12193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одейств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со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152280" y="76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бщие химические свойства неорганических и органически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12"/>
          <p:cNvSpPr/>
          <p:nvPr/>
        </p:nvSpPr>
        <p:spPr>
          <a:xfrm>
            <a:off x="3124080" y="3048120"/>
            <a:ext cx="3048120" cy="1752480"/>
          </a:xfrm>
          <a:prstGeom prst="ellipse">
            <a:avLst/>
          </a:prstGeom>
          <a:solidFill>
            <a:srgbClr val="00ff99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350532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304920" y="1752480"/>
            <a:ext cx="2666880" cy="10954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индик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3352680" y="1676520"/>
            <a:ext cx="2519640" cy="109512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cc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социир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заимодействие кислот с индикато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762120"/>
          <a:ext cx="8610480" cy="3983040"/>
        </p:xfrm>
        <a:graphic>
          <a:graphicData uri="http://schemas.openxmlformats.org/drawingml/2006/table">
            <a:tbl>
              <a:tblPr/>
              <a:tblGrid>
                <a:gridCol w="2917800"/>
                <a:gridCol w="2846160"/>
                <a:gridCol w="28465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 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 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м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олетов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1d08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фтале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анже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анжев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овый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457200" y="244440"/>
            <a:ext cx="8385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иссоци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9480" y="1143000"/>
            <a:ext cx="77724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→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+ 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↔ 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   + H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 2 H  + 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3809880" y="1143000"/>
                <a:ext cx="304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666880" y="1066680"/>
                <a:ext cx="3812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2895480" y="3276720"/>
                <a:ext cx="38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"/>
              <p:cNvSpPr txBox="1"/>
              <p:nvPr/>
            </p:nvSpPr>
            <p:spPr>
              <a:xfrm>
                <a:off x="4648320" y="3276720"/>
                <a:ext cx="22860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6095880" y="3276720"/>
                <a:ext cx="381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391520" y="3276720"/>
                <a:ext cx="336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0"/>
              <p:cNvSpPr txBox="1"/>
              <p:nvPr/>
            </p:nvSpPr>
            <p:spPr>
              <a:xfrm>
                <a:off x="5181480" y="2209680"/>
                <a:ext cx="304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6248520" y="2209680"/>
                <a:ext cx="3808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метал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1295280"/>
          <a:ext cx="8381880" cy="3276720"/>
        </p:xfrm>
        <a:graphic>
          <a:graphicData uri="http://schemas.openxmlformats.org/drawingml/2006/table">
            <a:tbl>
              <a:tblPr/>
              <a:tblGrid>
                <a:gridCol w="1630080"/>
                <a:gridCol w="5075280"/>
                <a:gridCol w="1676520"/>
              </a:tblGrid>
              <a:tr h="109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7" name="TextBox 3"/>
          <p:cNvSpPr/>
          <p:nvPr/>
        </p:nvSpPr>
        <p:spPr>
          <a:xfrm>
            <a:off x="32004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380880" y="2743200"/>
            <a:ext cx="152424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1981080" y="2743200"/>
            <a:ext cx="518184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+ 2HCL → Mg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HCL 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6934320" y="2895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8"/>
          <p:cNvSpPr/>
          <p:nvPr/>
        </p:nvSpPr>
        <p:spPr>
          <a:xfrm flipH="1">
            <a:off x="3276360" y="358128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9"/>
          <p:cNvSpPr/>
          <p:nvPr/>
        </p:nvSpPr>
        <p:spPr>
          <a:xfrm flipH="1">
            <a:off x="4038480" y="388620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основными оксид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1828800"/>
          <a:ext cx="8381880" cy="3276720"/>
        </p:xfrm>
        <a:graphic>
          <a:graphicData uri="http://schemas.openxmlformats.org/drawingml/2006/table">
            <a:tbl>
              <a:tblPr/>
              <a:tblGrid>
                <a:gridCol w="1630080"/>
                <a:gridCol w="5075280"/>
                <a:gridCol w="1676520"/>
              </a:tblGrid>
              <a:tr h="109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3"/>
          <p:cNvSpPr/>
          <p:nvPr/>
        </p:nvSpPr>
        <p:spPr>
          <a:xfrm>
            <a:off x="3200400" y="106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80880" y="3200400"/>
            <a:ext cx="15242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1981080" y="3200400"/>
            <a:ext cx="51818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u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6934320" y="3429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3657600" y="3048120"/>
                <a:ext cx="304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4267080" y="3657600"/>
                <a:ext cx="304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основани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828800"/>
          <a:ext cx="8381880" cy="3341520"/>
        </p:xfrm>
        <a:graphic>
          <a:graphicData uri="http://schemas.openxmlformats.org/drawingml/2006/table">
            <a:tbl>
              <a:tblPr/>
              <a:tblGrid>
                <a:gridCol w="1981080"/>
                <a:gridCol w="4724280"/>
                <a:gridCol w="1676520"/>
              </a:tblGrid>
              <a:tr h="1157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3"/>
          <p:cNvSpPr/>
          <p:nvPr/>
        </p:nvSpPr>
        <p:spPr>
          <a:xfrm>
            <a:off x="3200400" y="106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304920" y="3048120"/>
            <a:ext cx="19810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фтал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2286000" y="3200400"/>
            <a:ext cx="4724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+ HCL → NaCL+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6934320" y="3505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зучение реакции взаимодействия кислот с сол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828800"/>
          <a:ext cx="8763120" cy="3276720"/>
        </p:xfrm>
        <a:graphic>
          <a:graphicData uri="http://schemas.openxmlformats.org/drawingml/2006/table">
            <a:tbl>
              <a:tblPr/>
              <a:tblGrid>
                <a:gridCol w="1703520"/>
                <a:gridCol w="5383080"/>
                <a:gridCol w="1676520"/>
              </a:tblGrid>
              <a:tr h="109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Исходные ве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равнения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изнаки реакц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9" name="TextBox 3"/>
          <p:cNvSpPr/>
          <p:nvPr/>
        </p:nvSpPr>
        <p:spPr>
          <a:xfrm>
            <a:off x="3200400" y="1066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228600" y="3048120"/>
            <a:ext cx="1523880" cy="24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905120" y="3048120"/>
            <a:ext cx="54100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Ba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→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716292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адение оса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7162920" y="4114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г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C:\Documents and Settings\Настя\Application Data\Microsoft\Media Catalog\консервы.jpg"/>
          <p:cNvPicPr/>
          <p:nvPr/>
        </p:nvPicPr>
        <p:blipFill>
          <a:blip r:embed="rId1"/>
          <a:stretch/>
        </p:blipFill>
        <p:spPr>
          <a:xfrm>
            <a:off x="6553080" y="228600"/>
            <a:ext cx="2362320" cy="20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C:\Documents and Settings\Настя\Application Data\Microsoft\Media Catalog\Копия мыло 2.jpg"/>
          <p:cNvPicPr/>
          <p:nvPr/>
        </p:nvPicPr>
        <p:blipFill>
          <a:blip r:embed="rId2"/>
          <a:stretch/>
        </p:blipFill>
        <p:spPr>
          <a:xfrm>
            <a:off x="3581280" y="4662360"/>
            <a:ext cx="2743200" cy="2195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D:\All_DATA\Desktop\82867397_4057938_oil.jpg"/>
          <p:cNvPicPr/>
          <p:nvPr/>
        </p:nvPicPr>
        <p:blipFill>
          <a:blip r:embed="rId3"/>
          <a:stretch/>
        </p:blipFill>
        <p:spPr>
          <a:xfrm>
            <a:off x="6805440" y="4334040"/>
            <a:ext cx="2338560" cy="2523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D:\All_DATA\Desktop\c78d2c.jpg"/>
          <p:cNvPicPr/>
          <p:nvPr/>
        </p:nvPicPr>
        <p:blipFill>
          <a:blip r:embed="rId4"/>
          <a:stretch/>
        </p:blipFill>
        <p:spPr>
          <a:xfrm>
            <a:off x="3200400" y="2590920"/>
            <a:ext cx="3456000" cy="189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hospital-israel.ru/wp-content/uploads/2012/06/%D0%AF%D0%B7%D0%B2%D0%B0-%D0%BF%D0%B8%D1%89%D0%B5%D0%B2%D0%BE%D0%B4%D0%B0-%D0%BB%D0%B5%D1%87%D0%B5%D0%BD%D0%B8%D0%B5.jpg"/>
          <p:cNvPicPr/>
          <p:nvPr/>
        </p:nvPicPr>
        <p:blipFill>
          <a:blip r:embed="rId5"/>
          <a:stretch/>
        </p:blipFill>
        <p:spPr>
          <a:xfrm>
            <a:off x="0" y="4343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миндальный пилинг.jpg"/>
          <p:cNvPicPr/>
          <p:nvPr/>
        </p:nvPicPr>
        <p:blipFill>
          <a:blip r:embed="rId6"/>
          <a:stretch/>
        </p:blipFill>
        <p:spPr>
          <a:xfrm>
            <a:off x="2895480" y="228600"/>
            <a:ext cx="3048120" cy="19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ttp://goroskop.ru/images/publish/articles/60037/5prod-milk.jpg"/>
          <p:cNvPicPr/>
          <p:nvPr/>
        </p:nvPicPr>
        <p:blipFill>
          <a:blip r:embed="rId7"/>
          <a:stretch/>
        </p:blipFill>
        <p:spPr>
          <a:xfrm>
            <a:off x="152280" y="152280"/>
            <a:ext cx="2190960" cy="2705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D:\All_DATA\Desktop\0a1577214375e953f933ab78697d5233.jpg"/>
          <p:cNvPicPr/>
          <p:nvPr/>
        </p:nvPicPr>
        <p:blipFill>
          <a:blip r:embed="rId8"/>
          <a:stretch/>
        </p:blipFill>
        <p:spPr>
          <a:xfrm>
            <a:off x="609480" y="2590920"/>
            <a:ext cx="2819520" cy="196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9"/>
          <a:stretch/>
        </p:blipFill>
        <p:spPr>
          <a:xfrm>
            <a:off x="5929200" y="1905120"/>
            <a:ext cx="3214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429000" y="2971800"/>
            <a:ext cx="2160720" cy="581400"/>
          </a:xfrm>
          <a:prstGeom prst="rect">
            <a:avLst/>
          </a:prstGeom>
          <a:solidFill>
            <a:srgbClr val="e3e3f5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Прямая со стрелкой 5"/>
          <p:cNvCxnSpPr/>
          <p:nvPr/>
        </p:nvCxnSpPr>
        <p:spPr>
          <a:xfrm flipV="1">
            <a:off x="5562360" y="2285640"/>
            <a:ext cx="61020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Прямая со стрелкой 7"/>
          <p:cNvCxnSpPr/>
          <p:nvPr/>
        </p:nvCxnSpPr>
        <p:spPr>
          <a:xfrm flipH="1" flipV="1">
            <a:off x="2895120" y="2437920"/>
            <a:ext cx="5342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Прямая со стрелкой 9"/>
          <p:cNvCxnSpPr/>
          <p:nvPr/>
        </p:nvCxnSpPr>
        <p:spPr>
          <a:xfrm>
            <a:off x="5638680" y="3429000"/>
            <a:ext cx="9914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11"/>
          <p:cNvCxnSpPr/>
          <p:nvPr/>
        </p:nvCxnSpPr>
        <p:spPr>
          <a:xfrm flipH="1">
            <a:off x="2590560" y="3429000"/>
            <a:ext cx="838800" cy="18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Прямая со стрелкой 13"/>
          <p:cNvCxnSpPr/>
          <p:nvPr/>
        </p:nvCxnSpPr>
        <p:spPr>
          <a:xfrm flipH="1">
            <a:off x="3200040" y="3580920"/>
            <a:ext cx="3816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Прямая со стрелкой 15"/>
          <p:cNvCxnSpPr/>
          <p:nvPr/>
        </p:nvCxnSpPr>
        <p:spPr>
          <a:xfrm>
            <a:off x="5257440" y="3581280"/>
            <a:ext cx="437400" cy="1077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51" name="Группа 3"/>
          <p:cNvGrpSpPr/>
          <p:nvPr/>
        </p:nvGrpSpPr>
        <p:grpSpPr>
          <a:xfrm>
            <a:off x="1295280" y="1066680"/>
            <a:ext cx="2087640" cy="1440000"/>
            <a:chOff x="1295280" y="1066680"/>
            <a:chExt cx="2087640" cy="1440000"/>
          </a:xfrm>
        </p:grpSpPr>
        <p:grpSp>
          <p:nvGrpSpPr>
            <p:cNvPr id="252" name="Овал 17"/>
            <p:cNvGrpSpPr/>
            <p:nvPr/>
          </p:nvGrpSpPr>
          <p:grpSpPr>
            <a:xfrm>
              <a:off x="1295280" y="1066680"/>
              <a:ext cx="2087640" cy="1440000"/>
              <a:chOff x="1295280" y="1066680"/>
              <a:chExt cx="2087640" cy="1440000"/>
            </a:xfrm>
          </p:grpSpPr>
          <p:pic>
            <p:nvPicPr>
              <p:cNvPr id="253" name="Овал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1066680"/>
                <a:ext cx="20876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1640160" y="1296720"/>
                <a:ext cx="140040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Box 19"/>
            <p:cNvSpPr/>
            <p:nvPr/>
          </p:nvSpPr>
          <p:spPr>
            <a:xfrm>
              <a:off x="1417680" y="1412280"/>
              <a:ext cx="182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м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лове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Группа 4"/>
          <p:cNvGrpSpPr/>
          <p:nvPr/>
        </p:nvGrpSpPr>
        <p:grpSpPr>
          <a:xfrm>
            <a:off x="457200" y="2895480"/>
            <a:ext cx="2087640" cy="1440000"/>
            <a:chOff x="457200" y="2895480"/>
            <a:chExt cx="2087640" cy="1440000"/>
          </a:xfrm>
        </p:grpSpPr>
        <p:grpSp>
          <p:nvGrpSpPr>
            <p:cNvPr id="257" name="Овал 22"/>
            <p:cNvGrpSpPr/>
            <p:nvPr/>
          </p:nvGrpSpPr>
          <p:grpSpPr>
            <a:xfrm>
              <a:off x="457200" y="2895480"/>
              <a:ext cx="2087640" cy="1440000"/>
              <a:chOff x="457200" y="2895480"/>
              <a:chExt cx="2087640" cy="1440000"/>
            </a:xfrm>
          </p:grpSpPr>
          <p:pic>
            <p:nvPicPr>
              <p:cNvPr id="258" name="Овал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" y="2895480"/>
                <a:ext cx="20876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804960" y="3125520"/>
                <a:ext cx="140040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Box 20"/>
            <p:cNvSpPr/>
            <p:nvPr/>
          </p:nvSpPr>
          <p:spPr>
            <a:xfrm>
              <a:off x="611280" y="3378600"/>
              <a:ext cx="17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тения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Группа 25" descr=""/>
          <p:cNvPicPr/>
          <p:nvPr/>
        </p:nvPicPr>
        <p:blipFill>
          <a:blip r:embed="rId3"/>
          <a:stretch/>
        </p:blipFill>
        <p:spPr>
          <a:xfrm>
            <a:off x="2206800" y="4687920"/>
            <a:ext cx="2236680" cy="1547640"/>
          </a:xfrm>
          <a:prstGeom prst="rect">
            <a:avLst/>
          </a:prstGeom>
          <a:ln w="0">
            <a:noFill/>
          </a:ln>
        </p:spPr>
      </p:pic>
      <p:pic>
        <p:nvPicPr>
          <p:cNvPr id="262" name="Группа 29" descr=""/>
          <p:cNvPicPr/>
          <p:nvPr/>
        </p:nvPicPr>
        <p:blipFill>
          <a:blip r:embed="rId4"/>
          <a:stretch/>
        </p:blipFill>
        <p:spPr>
          <a:xfrm>
            <a:off x="5022720" y="4614840"/>
            <a:ext cx="2237040" cy="1548000"/>
          </a:xfrm>
          <a:prstGeom prst="rect">
            <a:avLst/>
          </a:prstGeom>
          <a:ln w="0">
            <a:noFill/>
          </a:ln>
        </p:spPr>
      </p:pic>
      <p:pic>
        <p:nvPicPr>
          <p:cNvPr id="263" name="Группа 32" descr=""/>
          <p:cNvPicPr/>
          <p:nvPr/>
        </p:nvPicPr>
        <p:blipFill>
          <a:blip r:embed="rId5"/>
          <a:stretch/>
        </p:blipFill>
        <p:spPr>
          <a:xfrm>
            <a:off x="6572160" y="2859120"/>
            <a:ext cx="2200320" cy="1547640"/>
          </a:xfrm>
          <a:prstGeom prst="rect">
            <a:avLst/>
          </a:prstGeom>
          <a:ln w="0">
            <a:noFill/>
          </a:ln>
        </p:spPr>
      </p:pic>
      <p:pic>
        <p:nvPicPr>
          <p:cNvPr id="264" name="Группа 35" descr=""/>
          <p:cNvPicPr/>
          <p:nvPr/>
        </p:nvPicPr>
        <p:blipFill>
          <a:blip r:embed="rId6"/>
          <a:stretch/>
        </p:blipFill>
        <p:spPr>
          <a:xfrm>
            <a:off x="5810400" y="1030320"/>
            <a:ext cx="2199960" cy="15476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304920" y="2286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ы в наш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PE01981_"/>
          <p:cNvPicPr/>
          <p:nvPr/>
        </p:nvPicPr>
        <p:blipFill>
          <a:blip r:embed="rId7"/>
          <a:stretch/>
        </p:blipFill>
        <p:spPr>
          <a:xfrm>
            <a:off x="457200" y="177840"/>
            <a:ext cx="2478240" cy="23572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6" descr="Растения для приготовления инфуза, масляного экстракта, отвара. Обсуждение на LiveInternet - Российский Сервис Онлайн-Дневников"/>
          <p:cNvPicPr/>
          <p:nvPr/>
        </p:nvPicPr>
        <p:blipFill>
          <a:blip r:embed="rId8"/>
          <a:stretch/>
        </p:blipFill>
        <p:spPr>
          <a:xfrm>
            <a:off x="304920" y="281952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7" descr="Ученые намерены подсчитать муравьев необъяснимые явления"/>
          <p:cNvPicPr/>
          <p:nvPr/>
        </p:nvPicPr>
        <p:blipFill>
          <a:blip r:embed="rId9"/>
          <a:stretch/>
        </p:blipFill>
        <p:spPr>
          <a:xfrm>
            <a:off x="1676520" y="47242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1" descr="3.jpg"/>
          <p:cNvPicPr/>
          <p:nvPr/>
        </p:nvPicPr>
        <p:blipFill>
          <a:blip r:embed="rId10"/>
          <a:stretch/>
        </p:blipFill>
        <p:spPr>
          <a:xfrm>
            <a:off x="4952880" y="4724280"/>
            <a:ext cx="278604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1" descr="Интернет аптека Диолла Екатеринбург интернет-аптека Диолла"/>
          <p:cNvPicPr/>
          <p:nvPr/>
        </p:nvPicPr>
        <p:blipFill>
          <a:blip r:embed="rId11"/>
          <a:stretch/>
        </p:blipFill>
        <p:spPr>
          <a:xfrm>
            <a:off x="5867280" y="20574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3" descr="Использование жирных кислот в диетическом питании против угрей"/>
          <p:cNvPicPr/>
          <p:nvPr/>
        </p:nvPicPr>
        <p:blipFill>
          <a:blip r:embed="rId12"/>
          <a:stretch/>
        </p:blipFill>
        <p:spPr>
          <a:xfrm>
            <a:off x="5943600" y="762120"/>
            <a:ext cx="289548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Documents and Settings\пльзователь\Рабочий стол\Молнии 2.jpg"/>
          <p:cNvPicPr/>
          <p:nvPr/>
        </p:nvPicPr>
        <p:blipFill>
          <a:blip r:embed="rId1"/>
          <a:stretch/>
        </p:blipFill>
        <p:spPr>
          <a:xfrm>
            <a:off x="6172200" y="914400"/>
            <a:ext cx="2376360" cy="2786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ы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Азотная кисло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образуется при взаимодействии  с дождевой водой диоксида азота, образующегося в результате грозовых разря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5" descr="Извержение вулкана.jpg"/>
          <p:cNvPicPr/>
          <p:nvPr/>
        </p:nvPicPr>
        <p:blipFill>
          <a:blip r:embed="rId2"/>
          <a:stretch/>
        </p:blipFill>
        <p:spPr>
          <a:xfrm>
            <a:off x="152280" y="3733920"/>
            <a:ext cx="352440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6"/>
          <p:cNvSpPr/>
          <p:nvPr/>
        </p:nvSpPr>
        <p:spPr>
          <a:xfrm>
            <a:off x="4267080" y="40384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ржения вулканов и сгорание топлива способствуют появлению в снеговой и дождевой воде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ной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57200" y="152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ные дожди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D:\All_DATA\Desktop\image3.png"/>
          <p:cNvPicPr/>
          <p:nvPr/>
        </p:nvPicPr>
        <p:blipFill>
          <a:blip r:embed="rId3"/>
          <a:stretch/>
        </p:blipFill>
        <p:spPr>
          <a:xfrm>
            <a:off x="990720" y="990720"/>
            <a:ext cx="728964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ефлек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5359b"/>
                </a:solidFill>
                <a:latin typeface="Times New Roman"/>
                <a:ea typeface="Times New Roman"/>
              </a:rPr>
              <a:t>Начните Ваш ответ слов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676520" y="1219320"/>
            <a:ext cx="5573520" cy="76176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7"/>
          <p:cNvGrpSpPr/>
          <p:nvPr/>
        </p:nvGrpSpPr>
        <p:grpSpPr>
          <a:xfrm>
            <a:off x="1981080" y="4572000"/>
            <a:ext cx="2514240" cy="2066400"/>
            <a:chOff x="1981080" y="4572000"/>
            <a:chExt cx="2514240" cy="2066400"/>
          </a:xfrm>
        </p:grpSpPr>
        <p:sp>
          <p:nvSpPr>
            <p:cNvPr id="282" name="Oval 8"/>
            <p:cNvSpPr/>
            <p:nvPr/>
          </p:nvSpPr>
          <p:spPr>
            <a:xfrm>
              <a:off x="1981080" y="4572000"/>
              <a:ext cx="2514240" cy="206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886e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1981080" y="4572000"/>
              <a:ext cx="2514240" cy="206640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2116080" y="4683600"/>
              <a:ext cx="2187000" cy="1796400"/>
            </a:xfrm>
            <a:prstGeom prst="ellipse">
              <a:avLst/>
            </a:prstGeom>
            <a:gradFill rotWithShape="0">
              <a:gsLst>
                <a:gs pos="0">
                  <a:srgbClr val="5b4979"/>
                </a:gs>
                <a:gs pos="50000">
                  <a:srgbClr val="a886e0"/>
                </a:gs>
                <a:gs pos="100000">
                  <a:srgbClr val="5b49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2116080" y="4685400"/>
              <a:ext cx="2187000" cy="1796760"/>
            </a:xfrm>
            <a:prstGeom prst="ellipse">
              <a:avLst/>
            </a:prstGeom>
            <a:gradFill rotWithShape="0">
              <a:gsLst>
                <a:gs pos="0">
                  <a:srgbClr val="6b558e"/>
                </a:gs>
                <a:gs pos="100000">
                  <a:srgbClr val="a886e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"/>
            <p:cNvSpPr/>
            <p:nvPr/>
          </p:nvSpPr>
          <p:spPr>
            <a:xfrm>
              <a:off x="2232720" y="4790880"/>
              <a:ext cx="1970280" cy="1619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"/>
            <p:cNvGrpSpPr/>
            <p:nvPr/>
          </p:nvGrpSpPr>
          <p:grpSpPr>
            <a:xfrm>
              <a:off x="2211480" y="4798800"/>
              <a:ext cx="1982160" cy="1599120"/>
              <a:chOff x="2211480" y="4798800"/>
              <a:chExt cx="1982160" cy="1599120"/>
            </a:xfrm>
          </p:grpSpPr>
          <p:sp>
            <p:nvSpPr>
              <p:cNvPr id="288" name="Oval 14"/>
              <p:cNvSpPr/>
              <p:nvPr/>
            </p:nvSpPr>
            <p:spPr>
              <a:xfrm>
                <a:off x="2269440" y="4799880"/>
                <a:ext cx="1905840" cy="1570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15"/>
              <p:cNvSpPr/>
              <p:nvPr/>
            </p:nvSpPr>
            <p:spPr>
              <a:xfrm>
                <a:off x="2293560" y="4808520"/>
                <a:ext cx="1860120" cy="1531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16"/>
              <p:cNvSpPr/>
              <p:nvPr/>
            </p:nvSpPr>
            <p:spPr>
              <a:xfrm>
                <a:off x="2313360" y="4823640"/>
                <a:ext cx="1768680" cy="1431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7"/>
              <p:cNvSpPr/>
              <p:nvPr/>
            </p:nvSpPr>
            <p:spPr>
              <a:xfrm>
                <a:off x="2211480" y="4798800"/>
                <a:ext cx="1982160" cy="1599120"/>
              </a:xfrm>
              <a:prstGeom prst="ellipse">
                <a:avLst/>
              </a:prstGeom>
              <a:gradFill rotWithShape="0">
                <a:gsLst>
                  <a:gs pos="0">
                    <a:srgbClr val="ceeeff"/>
                  </a:gs>
                  <a:gs pos="100000">
                    <a:srgbClr val="effaff"/>
                  </a:gs>
                </a:gsLst>
                <a:lin ang="16200000"/>
              </a:gradFill>
              <a:ln w="9360">
                <a:solidFill>
                  <a:srgbClr val="c4ddf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8"/>
          <p:cNvGrpSpPr/>
          <p:nvPr/>
        </p:nvGrpSpPr>
        <p:grpSpPr>
          <a:xfrm>
            <a:off x="4495680" y="4495680"/>
            <a:ext cx="2514240" cy="2072880"/>
            <a:chOff x="4495680" y="4495680"/>
            <a:chExt cx="2514240" cy="2072880"/>
          </a:xfrm>
        </p:grpSpPr>
        <p:sp>
          <p:nvSpPr>
            <p:cNvPr id="293" name="Oval 19"/>
            <p:cNvSpPr/>
            <p:nvPr/>
          </p:nvSpPr>
          <p:spPr>
            <a:xfrm>
              <a:off x="4495680" y="4495680"/>
              <a:ext cx="2514240" cy="207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0"/>
            <p:cNvSpPr/>
            <p:nvPr/>
          </p:nvSpPr>
          <p:spPr>
            <a:xfrm>
              <a:off x="4495680" y="4495680"/>
              <a:ext cx="2514240" cy="207288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1"/>
            <p:cNvSpPr/>
            <p:nvPr/>
          </p:nvSpPr>
          <p:spPr>
            <a:xfrm>
              <a:off x="4664520" y="4607280"/>
              <a:ext cx="2180880" cy="17996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2"/>
            <p:cNvSpPr/>
            <p:nvPr/>
          </p:nvSpPr>
          <p:spPr>
            <a:xfrm>
              <a:off x="4667400" y="4611240"/>
              <a:ext cx="2180880" cy="17996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4769640" y="4707720"/>
              <a:ext cx="1964160" cy="1617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24"/>
            <p:cNvGrpSpPr/>
            <p:nvPr/>
          </p:nvGrpSpPr>
          <p:grpSpPr>
            <a:xfrm>
              <a:off x="4798080" y="4727160"/>
              <a:ext cx="1911240" cy="1595160"/>
              <a:chOff x="4798080" y="4727160"/>
              <a:chExt cx="1911240" cy="1595160"/>
            </a:xfrm>
          </p:grpSpPr>
          <p:sp>
            <p:nvSpPr>
              <p:cNvPr id="299" name="Oval 25"/>
              <p:cNvSpPr/>
              <p:nvPr/>
            </p:nvSpPr>
            <p:spPr>
              <a:xfrm>
                <a:off x="4805640" y="4727160"/>
                <a:ext cx="1903680" cy="1571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6"/>
              <p:cNvSpPr/>
              <p:nvPr/>
            </p:nvSpPr>
            <p:spPr>
              <a:xfrm>
                <a:off x="4829760" y="4735800"/>
                <a:ext cx="1858320" cy="1532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7"/>
              <p:cNvSpPr/>
              <p:nvPr/>
            </p:nvSpPr>
            <p:spPr>
              <a:xfrm>
                <a:off x="4798080" y="4750920"/>
                <a:ext cx="1903680" cy="1571400"/>
              </a:xfrm>
              <a:prstGeom prst="ellipse">
                <a:avLst/>
              </a:prstGeom>
              <a:gradFill rotWithShape="0">
                <a:gsLst>
                  <a:gs pos="0">
                    <a:srgbClr val="ceeeff"/>
                  </a:gs>
                  <a:gs pos="100000">
                    <a:srgbClr val="effaff"/>
                  </a:gs>
                </a:gsLst>
                <a:lin ang="16200000"/>
              </a:gradFill>
              <a:ln w="9360">
                <a:solidFill>
                  <a:srgbClr val="c4ddf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29"/>
          <p:cNvGrpSpPr/>
          <p:nvPr/>
        </p:nvGrpSpPr>
        <p:grpSpPr>
          <a:xfrm>
            <a:off x="6781680" y="3581280"/>
            <a:ext cx="2361960" cy="2209680"/>
            <a:chOff x="6781680" y="3581280"/>
            <a:chExt cx="2361960" cy="2209680"/>
          </a:xfrm>
        </p:grpSpPr>
        <p:sp>
          <p:nvSpPr>
            <p:cNvPr id="303" name="Oval 30"/>
            <p:cNvSpPr/>
            <p:nvPr/>
          </p:nvSpPr>
          <p:spPr>
            <a:xfrm>
              <a:off x="6781680" y="3581280"/>
              <a:ext cx="2361960" cy="22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3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6781680" y="3581280"/>
              <a:ext cx="2361960" cy="220968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6927120" y="3714840"/>
              <a:ext cx="2052360" cy="1922040"/>
            </a:xfrm>
            <a:prstGeom prst="ellipse">
              <a:avLst/>
            </a:prstGeom>
            <a:gradFill rotWithShape="0">
              <a:gsLst>
                <a:gs pos="0">
                  <a:srgbClr val="8a531c"/>
                </a:gs>
                <a:gs pos="50000">
                  <a:srgbClr val="ff9933"/>
                </a:gs>
                <a:gs pos="100000">
                  <a:srgbClr val="8a531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6936120" y="3688200"/>
              <a:ext cx="2052000" cy="1921680"/>
            </a:xfrm>
            <a:prstGeom prst="ellipse">
              <a:avLst/>
            </a:prstGeom>
            <a:gradFill rotWithShape="0">
              <a:gsLst>
                <a:gs pos="0">
                  <a:srgbClr val="a26120"/>
                </a:gs>
                <a:gs pos="100000">
                  <a:srgbClr val="ff993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7025760" y="3819960"/>
              <a:ext cx="1847880" cy="173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5"/>
            <p:cNvGrpSpPr/>
            <p:nvPr/>
          </p:nvGrpSpPr>
          <p:grpSpPr>
            <a:xfrm>
              <a:off x="6969960" y="3803400"/>
              <a:ext cx="1892520" cy="1717560"/>
              <a:chOff x="6969960" y="3803400"/>
              <a:chExt cx="1892520" cy="1717560"/>
            </a:xfrm>
          </p:grpSpPr>
          <p:sp>
            <p:nvSpPr>
              <p:cNvPr id="309" name="Oval 36"/>
              <p:cNvSpPr/>
              <p:nvPr/>
            </p:nvSpPr>
            <p:spPr>
              <a:xfrm>
                <a:off x="7059960" y="3845880"/>
                <a:ext cx="1789200" cy="1675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37"/>
              <p:cNvSpPr/>
              <p:nvPr/>
            </p:nvSpPr>
            <p:spPr>
              <a:xfrm>
                <a:off x="7082640" y="3855240"/>
                <a:ext cx="1746360" cy="1633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38"/>
              <p:cNvSpPr/>
              <p:nvPr/>
            </p:nvSpPr>
            <p:spPr>
              <a:xfrm>
                <a:off x="7101360" y="3871440"/>
                <a:ext cx="1660680" cy="1526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9"/>
              <p:cNvSpPr/>
              <p:nvPr/>
            </p:nvSpPr>
            <p:spPr>
              <a:xfrm>
                <a:off x="6969960" y="3803400"/>
                <a:ext cx="1892520" cy="1694880"/>
              </a:xfrm>
              <a:prstGeom prst="ellipse">
                <a:avLst/>
              </a:prstGeom>
              <a:gradFill rotWithShape="0">
                <a:gsLst>
                  <a:gs pos="0">
                    <a:srgbClr val="ceeeff"/>
                  </a:gs>
                  <a:gs pos="100000">
                    <a:srgbClr val="effaff"/>
                  </a:gs>
                </a:gsLst>
                <a:lin ang="16200000"/>
              </a:gradFill>
              <a:ln w="9360">
                <a:solidFill>
                  <a:srgbClr val="c4ddf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40"/>
          <p:cNvGrpSpPr/>
          <p:nvPr/>
        </p:nvGrpSpPr>
        <p:grpSpPr>
          <a:xfrm>
            <a:off x="0" y="3657600"/>
            <a:ext cx="2263320" cy="2026800"/>
            <a:chOff x="0" y="3657600"/>
            <a:chExt cx="2263320" cy="2026800"/>
          </a:xfrm>
        </p:grpSpPr>
        <p:sp>
          <p:nvSpPr>
            <p:cNvPr id="314" name="Oval 41"/>
            <p:cNvSpPr/>
            <p:nvPr/>
          </p:nvSpPr>
          <p:spPr>
            <a:xfrm>
              <a:off x="0" y="3657600"/>
              <a:ext cx="2263320" cy="2026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0" y="3657600"/>
              <a:ext cx="2263320" cy="202680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46880" y="3789000"/>
              <a:ext cx="1969200" cy="176328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149760" y="3789000"/>
              <a:ext cx="1965960" cy="176328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254520" y="3878280"/>
              <a:ext cx="1769760" cy="1584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283320" y="3904200"/>
              <a:ext cx="1714680" cy="15350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304560" y="3913560"/>
              <a:ext cx="1672560" cy="1497960"/>
            </a:xfrm>
            <a:prstGeom prst="ellipse">
              <a:avLst/>
            </a:prstGeom>
            <a:gradFill rotWithShape="0">
              <a:gsLst>
                <a:gs pos="0">
                  <a:srgbClr val="ceeeff"/>
                </a:gs>
                <a:gs pos="100000">
                  <a:srgbClr val="effaff"/>
                </a:gs>
              </a:gsLst>
              <a:lin ang="16200000"/>
            </a:gradFill>
            <a:ln w="9360">
              <a:solidFill>
                <a:srgbClr val="c4ddf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Line 50"/>
          <p:cNvSpPr/>
          <p:nvPr/>
        </p:nvSpPr>
        <p:spPr>
          <a:xfrm flipH="1">
            <a:off x="1219320" y="2057400"/>
            <a:ext cx="504720" cy="1569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1"/>
          <p:cNvSpPr/>
          <p:nvPr/>
        </p:nvSpPr>
        <p:spPr>
          <a:xfrm flipH="1">
            <a:off x="3276360" y="2057400"/>
            <a:ext cx="152280" cy="2514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2"/>
          <p:cNvSpPr/>
          <p:nvPr/>
        </p:nvSpPr>
        <p:spPr>
          <a:xfrm>
            <a:off x="5334120" y="2057400"/>
            <a:ext cx="228600" cy="23623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3"/>
          <p:cNvSpPr/>
          <p:nvPr/>
        </p:nvSpPr>
        <p:spPr>
          <a:xfrm>
            <a:off x="7162920" y="2057400"/>
            <a:ext cx="304560" cy="1600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304920" y="4495680"/>
            <a:ext cx="166212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5"/>
          <p:cNvSpPr/>
          <p:nvPr/>
        </p:nvSpPr>
        <p:spPr>
          <a:xfrm>
            <a:off x="2362320" y="5334120"/>
            <a:ext cx="182880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4800600" y="5410080"/>
            <a:ext cx="198108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7"/>
          <p:cNvSpPr/>
          <p:nvPr/>
        </p:nvSpPr>
        <p:spPr>
          <a:xfrm>
            <a:off x="6858000" y="4495680"/>
            <a:ext cx="205740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0"/>
          <p:cNvSpPr/>
          <p:nvPr/>
        </p:nvSpPr>
        <p:spPr>
          <a:xfrm>
            <a:off x="1752480" y="1143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уд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ценка работы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480" y="10663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5» - задания выполнены полностью, в соответствии с маршрутной кар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4» - допущены несущественные ошибки при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«3» - допущены существенные ошибки при выполнении за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2057400" y="496800"/>
            <a:ext cx="6705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Calibri"/>
              </a:rPr>
              <a:t>Один произведенный опыт намного дороже тысячи теорий, которые так и остались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e5"/>
                </a:solidFill>
                <a:latin typeface="Times New Roman"/>
                <a:ea typeface="Calibri"/>
              </a:rPr>
              <a:t>М.В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990720" y="18288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ислоты  органическ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 неорган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33520" y="9144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Цель урока:</a:t>
            </a: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систематизировать и обобщить знания о номенклатуре, классификации и общих свойствах неорганических и органических кисл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их роли в жизни человек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828800" y="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пределение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33520" y="91440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сложные вещества, которые состоят из атомов водорода, способных замещаться на металл, и кислотного 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3520" y="198108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молекулы или ионы, которые являются донорами  катионов водорода Н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33520" y="304812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молекулы или ионы, которые являются акцепторами  катионов водорода Н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33520" y="4114800"/>
            <a:ext cx="8229600" cy="70380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 – это электролиты, которые при диссоциации образуют  катионы водорода и анионы кислотных оста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3429000" y="2895480"/>
            <a:ext cx="243828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класс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5"/>
          <p:cNvCxnSpPr/>
          <p:nvPr/>
        </p:nvCxnSpPr>
        <p:spPr>
          <a:xfrm flipV="1">
            <a:off x="5866920" y="2158560"/>
            <a:ext cx="707400" cy="737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7"/>
          <p:cNvCxnSpPr/>
          <p:nvPr/>
        </p:nvCxnSpPr>
        <p:spPr>
          <a:xfrm flipH="1" flipV="1">
            <a:off x="2666160" y="20570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9"/>
          <p:cNvCxnSpPr/>
          <p:nvPr/>
        </p:nvCxnSpPr>
        <p:spPr>
          <a:xfrm>
            <a:off x="5867280" y="342864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1"/>
          <p:cNvCxnSpPr/>
          <p:nvPr/>
        </p:nvCxnSpPr>
        <p:spPr>
          <a:xfrm flipH="1">
            <a:off x="2743200" y="3428640"/>
            <a:ext cx="660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3"/>
          <p:cNvCxnSpPr/>
          <p:nvPr/>
        </p:nvCxnSpPr>
        <p:spPr>
          <a:xfrm flipH="1">
            <a:off x="2941200" y="3733560"/>
            <a:ext cx="56448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5"/>
          <p:cNvCxnSpPr/>
          <p:nvPr/>
        </p:nvCxnSpPr>
        <p:spPr>
          <a:xfrm>
            <a:off x="5866920" y="3733920"/>
            <a:ext cx="36108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3" name="Группа 3"/>
          <p:cNvGrpSpPr/>
          <p:nvPr/>
        </p:nvGrpSpPr>
        <p:grpSpPr>
          <a:xfrm>
            <a:off x="228600" y="609480"/>
            <a:ext cx="2743200" cy="1820880"/>
            <a:chOff x="228600" y="609480"/>
            <a:chExt cx="2743200" cy="1820880"/>
          </a:xfrm>
        </p:grpSpPr>
        <p:grpSp>
          <p:nvGrpSpPr>
            <p:cNvPr id="114" name="Овал 17"/>
            <p:cNvGrpSpPr/>
            <p:nvPr/>
          </p:nvGrpSpPr>
          <p:grpSpPr>
            <a:xfrm>
              <a:off x="228600" y="609480"/>
              <a:ext cx="2743200" cy="1820880"/>
              <a:chOff x="228600" y="609480"/>
              <a:chExt cx="2743200" cy="1820880"/>
            </a:xfrm>
          </p:grpSpPr>
          <p:pic>
            <p:nvPicPr>
              <p:cNvPr id="115" name="Овал 17" descr="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228600" y="609480"/>
                <a:ext cx="2743200" cy="18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69600" y="894960"/>
                <a:ext cx="1861200" cy="12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9"/>
            <p:cNvSpPr/>
            <p:nvPr/>
          </p:nvSpPr>
          <p:spPr>
            <a:xfrm>
              <a:off x="535680" y="943560"/>
              <a:ext cx="2097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кислорода в кислотном остатк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4"/>
          <p:cNvGrpSpPr/>
          <p:nvPr/>
        </p:nvGrpSpPr>
        <p:grpSpPr>
          <a:xfrm>
            <a:off x="228600" y="2743200"/>
            <a:ext cx="2603520" cy="1752480"/>
            <a:chOff x="228600" y="2743200"/>
            <a:chExt cx="2603520" cy="1752480"/>
          </a:xfrm>
        </p:grpSpPr>
        <p:grpSp>
          <p:nvGrpSpPr>
            <p:cNvPr id="119" name="Овал 22"/>
            <p:cNvGrpSpPr/>
            <p:nvPr/>
          </p:nvGrpSpPr>
          <p:grpSpPr>
            <a:xfrm>
              <a:off x="228600" y="2743200"/>
              <a:ext cx="2603520" cy="1752480"/>
              <a:chOff x="228600" y="2743200"/>
              <a:chExt cx="2603520" cy="1752480"/>
            </a:xfrm>
          </p:grpSpPr>
          <p:pic>
            <p:nvPicPr>
              <p:cNvPr id="120" name="Овал 22" descr="">
                <a:hlinkClick r:id="rId3" action="ppaction://hlinksldjump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228600" y="2743200"/>
                <a:ext cx="26035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49080" y="3018600"/>
                <a:ext cx="1762920" cy="11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20"/>
            <p:cNvSpPr/>
            <p:nvPr/>
          </p:nvSpPr>
          <p:spPr>
            <a:xfrm>
              <a:off x="405360" y="333000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5" action="ppaction://hlinksldjump"/>
                </a:rPr>
                <a:t>Основ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Овал 27"/>
          <p:cNvGrpSpPr/>
          <p:nvPr/>
        </p:nvGrpSpPr>
        <p:grpSpPr>
          <a:xfrm>
            <a:off x="1554120" y="4767120"/>
            <a:ext cx="2768760" cy="1938600"/>
            <a:chOff x="1554120" y="4767120"/>
            <a:chExt cx="2768760" cy="1938600"/>
          </a:xfrm>
        </p:grpSpPr>
        <p:pic>
          <p:nvPicPr>
            <p:cNvPr id="124" name="Овал 2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554120" y="4767120"/>
              <a:ext cx="276876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3400" y="5068800"/>
              <a:ext cx="187488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29"/>
          <p:cNvGrpSpPr/>
          <p:nvPr/>
        </p:nvGrpSpPr>
        <p:grpSpPr>
          <a:xfrm>
            <a:off x="5029200" y="4724280"/>
            <a:ext cx="2743200" cy="1828800"/>
            <a:chOff x="5029200" y="4724280"/>
            <a:chExt cx="2743200" cy="1828800"/>
          </a:xfrm>
        </p:grpSpPr>
        <p:grpSp>
          <p:nvGrpSpPr>
            <p:cNvPr id="127" name="Овал 30"/>
            <p:cNvGrpSpPr/>
            <p:nvPr/>
          </p:nvGrpSpPr>
          <p:grpSpPr>
            <a:xfrm>
              <a:off x="5029200" y="4724280"/>
              <a:ext cx="2743200" cy="1828800"/>
              <a:chOff x="5029200" y="4724280"/>
              <a:chExt cx="2743200" cy="1828800"/>
            </a:xfrm>
          </p:grpSpPr>
          <p:pic>
            <p:nvPicPr>
              <p:cNvPr id="128" name="Овал 30" descr="">
                <a:hlinkClick r:id="rId8" action="ppaction://hlinksldjump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5029200" y="4724280"/>
                <a:ext cx="2743200" cy="18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5473080" y="5011200"/>
                <a:ext cx="1861200" cy="12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20"/>
            <p:cNvSpPr/>
            <p:nvPr/>
          </p:nvSpPr>
          <p:spPr>
            <a:xfrm>
              <a:off x="5155560" y="5405760"/>
              <a:ext cx="241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10" action="ppaction://hlinksldjump"/>
                </a:rPr>
                <a:t>Стабильно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Овал 33"/>
          <p:cNvGrpSpPr/>
          <p:nvPr/>
        </p:nvGrpSpPr>
        <p:grpSpPr>
          <a:xfrm>
            <a:off x="6340320" y="2706840"/>
            <a:ext cx="2657520" cy="2017440"/>
            <a:chOff x="6340320" y="2706840"/>
            <a:chExt cx="2657520" cy="2017440"/>
          </a:xfrm>
        </p:grpSpPr>
        <p:pic>
          <p:nvPicPr>
            <p:cNvPr id="132" name="Овал 33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340320" y="2706840"/>
              <a:ext cx="265752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773760" y="3022560"/>
              <a:ext cx="179892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35"/>
          <p:cNvGrpSpPr/>
          <p:nvPr/>
        </p:nvGrpSpPr>
        <p:grpSpPr>
          <a:xfrm>
            <a:off x="6172200" y="533520"/>
            <a:ext cx="2743200" cy="1904760"/>
            <a:chOff x="6172200" y="533520"/>
            <a:chExt cx="2743200" cy="1904760"/>
          </a:xfrm>
        </p:grpSpPr>
        <p:grpSp>
          <p:nvGrpSpPr>
            <p:cNvPr id="135" name="Овал 36"/>
            <p:cNvGrpSpPr/>
            <p:nvPr/>
          </p:nvGrpSpPr>
          <p:grpSpPr>
            <a:xfrm>
              <a:off x="6172200" y="533520"/>
              <a:ext cx="2743200" cy="1904760"/>
              <a:chOff x="6172200" y="533520"/>
              <a:chExt cx="2743200" cy="1904760"/>
            </a:xfrm>
          </p:grpSpPr>
          <p:pic>
            <p:nvPicPr>
              <p:cNvPr id="136" name="Овал 36" descr="">
                <a:hlinkClick r:id="rId13" action="ppaction://hlinksldjump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6172200" y="533520"/>
                <a:ext cx="2743200" cy="19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6613200" y="829440"/>
                <a:ext cx="1861200" cy="12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Box 20"/>
            <p:cNvSpPr/>
            <p:nvPr/>
          </p:nvSpPr>
          <p:spPr>
            <a:xfrm>
              <a:off x="6446880" y="1070280"/>
              <a:ext cx="22561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15" action="ppaction://hlinksldjump"/>
                </a:rPr>
                <a:t>Растворимос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  <a:hlinkClick r:id="rId16" action="ppaction://hlinksldjump"/>
                </a:rPr>
                <a:t>в во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29"/>
          <p:cNvSpPr/>
          <p:nvPr/>
        </p:nvSpPr>
        <p:spPr>
          <a:xfrm>
            <a:off x="1676520" y="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1905120" y="541008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Лету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6477120" y="3200400"/>
            <a:ext cx="24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Степень электролитической диссоци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25">
            <a:hlinkClick r:id="rId19" action="ppaction://hlinksldjump"/>
          </p:cNvPr>
          <p:cNvSpPr/>
          <p:nvPr/>
        </p:nvSpPr>
        <p:spPr>
          <a:xfrm>
            <a:off x="8153280" y="624852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2438280" y="1828800"/>
            <a:ext cx="419112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590920" y="4952880"/>
            <a:ext cx="38862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осодержа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ислоро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2438280" y="3657600"/>
            <a:ext cx="419112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2590920" y="5791320"/>
            <a:ext cx="388620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HCL, HBr, HC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личие кислорода в кислотном оста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9"/>
          <p:cNvSpPr/>
          <p:nvPr/>
        </p:nvSpPr>
        <p:spPr>
          <a:xfrm>
            <a:off x="8153280" y="6172200"/>
            <a:ext cx="762120" cy="457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3124080" y="1752480"/>
            <a:ext cx="2819520" cy="190512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629400" y="4267080"/>
            <a:ext cx="2209680" cy="194976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228600" y="1066680"/>
            <a:ext cx="259092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осн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3276720" y="1066680"/>
            <a:ext cx="25905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осн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6248520" y="1066680"/>
            <a:ext cx="25905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осно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52280" y="1752480"/>
            <a:ext cx="2819520" cy="190512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6095880" y="1752480"/>
            <a:ext cx="2895840" cy="190512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304920" y="4267080"/>
            <a:ext cx="2209680" cy="194976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C-CO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3124080" y="4267080"/>
            <a:ext cx="2819520" cy="194976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1447920" y="2556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Основность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>
            <a:off x="8229600" y="6172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1143000" y="18288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590920" y="1143000"/>
            <a:ext cx="396216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2971800" y="2971800"/>
            <a:ext cx="3200400" cy="520560"/>
          </a:xfrm>
          <a:prstGeom prst="rect">
            <a:avLst/>
          </a:prstGeom>
          <a:solidFill>
            <a:srgbClr val="00ff99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1143000" y="3657600"/>
            <a:ext cx="7086600" cy="914400"/>
          </a:xfrm>
          <a:prstGeom prst="rect">
            <a:avLst/>
          </a:prstGeom>
          <a:solidFill>
            <a:srgbClr val="cce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1600200" y="5105520"/>
            <a:ext cx="647712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228600" y="101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астворимость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1600200" y="5791320"/>
            <a:ext cx="6477120" cy="572400"/>
          </a:xfrm>
          <a:prstGeom prst="rect">
            <a:avLst/>
          </a:prstGeom>
          <a:solidFill>
            <a:srgbClr val="00ff99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OOH, 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право 9"/>
          <p:cNvSpPr/>
          <p:nvPr/>
        </p:nvSpPr>
        <p:spPr>
          <a:xfrm>
            <a:off x="8305920" y="624852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4:44:02Z</dcterms:created>
  <dc:creator>Комарвский Анатолий Николаевич</dc:creator>
  <dc:description/>
  <dc:language>en-US</dc:language>
  <cp:lastModifiedBy> </cp:lastModifiedBy>
  <dcterms:modified xsi:type="dcterms:W3CDTF">2015-03-18T19:27:49Z</dcterms:modified>
  <cp:revision>120</cp:revision>
  <dc:subject/>
  <dc:title>Макросы MoveHim и MoveTo</dc:title>
</cp:coreProperties>
</file>